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79D24-AFBD-47F4-A0BC-D0481D47D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EAAE5-6242-4143-9368-A4228E5A1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8E35A-4D71-48B8-BF79-6BB129CD3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4AC68-43D6-4B27-B620-59634F1C7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82413-3708-4E6F-AC7D-C9F1B6156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A3341-5D62-4F3F-B663-7282E1B42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EC31F-881E-4458-8E64-2E50F7292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0CAD7-FC67-4BDA-AF73-9FC1A69C8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CA5CA-0E8C-4FB3-8892-DC9D83B40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A4E6F-8B73-4416-AD83-3A3D978DF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E7247-0B18-4B79-B3A7-2A63C94FE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5BAFE-6578-4887-9EA4-5B76EF381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6F742-E923-4621-B840-1D6E54E5E4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400" spc="-1" strike="noStrike">
                <a:solidFill>
                  <a:srgbClr val="000000"/>
                </a:solidFill>
                <a:latin typeface="Comic Sans MS"/>
              </a:rPr>
              <a:t>Arrondir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743200" y="3352680"/>
            <a:ext cx="3124080" cy="31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400" spc="-1" strike="noStrike">
                <a:solidFill>
                  <a:srgbClr val="000000"/>
                </a:solidFill>
                <a:latin typeface="Comic Sans MS"/>
              </a:rPr>
              <a:t>Arrondir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00"/>
                </a:solidFill>
                <a:latin typeface="Comic Sans MS"/>
              </a:rPr>
              <a:t>Arrondis à la centaine près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00"/>
                </a:solidFill>
                <a:latin typeface="Comic Sans MS"/>
              </a:rPr>
              <a:t>912 =9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00"/>
                </a:solidFill>
                <a:latin typeface="Comic Sans MS"/>
              </a:rPr>
              <a:t>6798 =68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00"/>
                </a:solidFill>
                <a:latin typeface="Comic Sans MS"/>
              </a:rPr>
              <a:t>376 =4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00"/>
                </a:solidFill>
                <a:latin typeface="Comic Sans MS"/>
              </a:rPr>
              <a:t>3629 =36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00"/>
                </a:solidFill>
                <a:latin typeface="Comic Sans MS"/>
              </a:rPr>
              <a:t>2286 =23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00"/>
                </a:solidFill>
                <a:latin typeface="Comic Sans MS"/>
              </a:rPr>
              <a:t>397 =4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00"/>
                </a:solidFill>
                <a:latin typeface="Comic Sans MS"/>
              </a:rPr>
              <a:t>6533 =65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00"/>
                </a:solidFill>
                <a:latin typeface="Comic Sans MS"/>
              </a:rPr>
              <a:t>8396 =84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038480" y="2590920"/>
            <a:ext cx="236232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400" spc="-1" strike="noStrike">
                <a:solidFill>
                  <a:srgbClr val="000000"/>
                </a:solidFill>
                <a:latin typeface="Comic Sans MS"/>
              </a:rPr>
              <a:t>Arrondis au plus prè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1508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23 46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tés de mil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3 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zaine de mil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ntaine de mil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65 07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5 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8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94 5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5 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7620120" y="0"/>
            <a:ext cx="152388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400" spc="-1" strike="noStrike">
                <a:solidFill>
                  <a:srgbClr val="000000"/>
                </a:solidFill>
                <a:latin typeface="Comic Sans MS"/>
              </a:rPr>
              <a:t>Arrond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1508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49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zai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ntai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té de mil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6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8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5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705720" y="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6T17:28:05Z</dcterms:created>
  <dc:creator>nbdoe</dc:creator>
  <dc:description/>
  <dc:language>en-US</dc:language>
  <cp:lastModifiedBy>nbdoe</cp:lastModifiedBy>
  <dcterms:modified xsi:type="dcterms:W3CDTF">2008-09-17T17:10:07Z</dcterms:modified>
  <cp:revision>3</cp:revision>
  <dc:subject/>
  <dc:title>Arrondir…</dc:title>
</cp:coreProperties>
</file>